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42D-0AE3-495E-B4AE-B51526D5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87B-DDF2-45D7-A9BF-1E1797CD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E02E-FC9E-411B-A536-C1E5C7BD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757C-9C70-4013-843B-24C555BC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20E4-8754-4FA3-99BA-7E451178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9346-1F62-40E0-8E34-DD0E9B79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7A94-B1DB-4C4D-85DC-A6285EB4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5AA3-331D-46B9-89EC-79534181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2731-8178-41FF-AE76-85F86C9C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92B0-BB89-4751-AE65-301A4B54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46EA-D59D-4FE3-8CBB-0BEFF97B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7E6A-BE36-41D4-A924-4E19CBE3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C4A2-6E6C-4267-9AD5-C984559E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24D4-E801-4B12-B241-3089AAEA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CA08-93C4-4E69-BF4E-578DB67B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2534-915E-44E8-8326-A4060AEA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D536-452C-4055-B327-38DEA1FC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8031-BBF6-4746-8C6D-690782F3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3DDE-FC2C-4FB6-AFD0-ECE38E80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32A-2E9F-4623-96A1-BCCF2414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71F1-EC57-42D4-B825-95B0CB9C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E14-E8AB-43AF-A71C-696588F0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C95D-748F-4D47-B0B2-F152F01A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0018-B209-47FD-B5B6-6E6D448A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F248-4EBF-4CEF-8E5A-D737592A5C5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C9A9-67FC-43A7-9A3D-E8F4417C2048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formática na Socieda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Pesquisador/Professor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5" name="CaixaDeTexto 3"/>
          <p:cNvSpPr/>
          <p:nvPr/>
        </p:nvSpPr>
        <p:spPr>
          <a:xfrm>
            <a:off x="2616120" y="4903920"/>
            <a:ext cx="39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News Gothic MT"/>
              </a:rPr>
              <a:t>Apresentado por: Fred Sauer, D.Sc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quisito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estrado e Doutorad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endor para a atividade de pesquis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Gosto pela leitura e produção de artigo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aciência e perseverança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Foco no objetivo, sem pressa por resultado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Nunca deixará de estudar…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estrado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urso voltado a habilitação como professor de nível superio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ão é mais aceito em concursos para professor adjunto (estável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ipicamente concluído em 2 anos (limite 4 ano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réditos – nomalmente feitos de 6 meses a 1 ano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Dissertação – fruto de trabalho de pesquisa, sob a orientação de um Doutor e dentro de uma linha de pesquisa da universidad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outorado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84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urso voltado para a formação de pesquisador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-3384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ível mínimo para concursos a cargos em universidades públicas, vale grande pontuação em concursos para outros órgãos públicos – INMETRO, FIOCRUZ, BACEN, etc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-3384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ipicamente concluído em 3 anos (limite 5 ano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réditos – igual ao mestrado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ese – necessariamente deve conter contribuição inédita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-3384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 exemplo de outros países, o Brasil adotou o “Doutorado Direto”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Vantage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99800" y="1479240"/>
            <a:ext cx="4430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ercado de trabalho não-saturad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uitas vagas em universidades, inclusive no exterio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alários razoáveis e estabilidad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 quiser, pode optar por não ser DE e lecionar também em instituições privada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.: 20 tempos semanais (à noite)= R$ 10.000,00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5005440" y="1444680"/>
            <a:ext cx="40132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esvantage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 Brasil, são pouquissimas as oportunidades para pesquisadores na iniciativa privad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Google, Microsoft, IBM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s planos de cargos são achatado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emplo: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Professor Adjunto I a IV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Professor Associado I a IV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Professor Titular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4T13:29:06Z</dcterms:created>
  <dc:creator>Frederico Sauer</dc:creator>
  <dc:description/>
  <dc:language>en-US</dc:language>
  <cp:lastModifiedBy>Fred Sauer</cp:lastModifiedBy>
  <dcterms:modified xsi:type="dcterms:W3CDTF">2016-09-23T21:57:11Z</dcterms:modified>
  <cp:revision>5</cp:revision>
  <dc:subject/>
  <dc:title>Informática na Sociedade</dc:title>
</cp:coreProperties>
</file>